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4.gif" ContentType="image/gif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7317-38AE-4AFD-9289-9E02BCB7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C8F10-F52A-41B0-83BA-569B12C4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3734-96E6-4FF1-ABCE-48148F72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FAAC-2EA6-4C80-90B0-FB617798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297C-52FD-405C-9DF7-A47176D1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5448-937D-4934-B61C-D81F15BD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C4B2-2925-47AC-81E0-F73D9782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AD02-314F-46EC-AAAC-844E57A1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5F3A-D94E-4C54-AEE2-E35974D7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6B5E-0BAF-43D7-9B19-D6FE056D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ABDF-A09D-4B0B-8771-D3637368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35789-CF86-439B-A8EB-5A94A0DD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CBF0-0C5D-4AD8-90A8-23503CFD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6D94-D9F5-4D9C-A1B5-F4BF5C33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CCFD-829B-4BB0-8DAF-D953AB10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EF30-53D0-4A8D-83D9-023102FD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791F-8B6E-4246-BF1F-E24A3DB0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055F-E8A0-4A81-B097-FA2DA205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05A0-046D-4BCC-B03A-157EBEED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E91A4-A74A-449E-91CB-2AB27C87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BD4D6-60A3-4203-9B3D-D6CDE451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4013-E856-4D16-98A4-00009475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B0532-3276-40D7-B09D-3D4996BD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430F3-8B56-4D4B-98D5-298DA654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A217-0B44-49CF-813E-355A79FA0A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E0B2-723E-44F8-9509-FB598D7274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16000" y="2637000"/>
            <a:ext cx="583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aramond"/>
              </a:rPr>
              <a:t>Зачем нужны дроби?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Garamond"/>
              </a:rPr>
              <a:t>Авторы и участники проекта:</a:t>
            </a:r>
            <a:r>
              <a:rPr b="0" lang="en-US" sz="3200" spc="-1" strike="noStrike">
                <a:solidFill>
                  <a:srgbClr val="89898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2944"/>
                </a:solidFill>
                <a:latin typeface="Garamond"/>
              </a:rPr>
              <a:t>Группа </a:t>
            </a:r>
            <a:r>
              <a:rPr b="1" lang="en-US" sz="3200" spc="-1" strike="noStrike">
                <a:solidFill>
                  <a:srgbClr val="e91b05"/>
                </a:solidFill>
                <a:latin typeface="Garamond"/>
              </a:rPr>
              <a:t>«Историк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2944"/>
                </a:solidFill>
                <a:latin typeface="Garamond"/>
              </a:rPr>
              <a:t>Группа  </a:t>
            </a:r>
            <a:r>
              <a:rPr b="1" lang="en-US" sz="3200" spc="-1" strike="noStrike">
                <a:solidFill>
                  <a:srgbClr val="e91b05"/>
                </a:solidFill>
                <a:latin typeface="Garamond"/>
              </a:rPr>
              <a:t>«Исследовател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260280"/>
            <a:ext cx="595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Garamond"/>
                <a:ea typeface="Arial"/>
              </a:rPr>
              <a:t>Как возникли                   дроби?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16642200">
            <a:off x="770760" y="1289520"/>
            <a:ext cx="227484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620640"/>
            <a:ext cx="2160720" cy="20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Garamond"/>
              </a:rPr>
              <a:t>Результат анкетирова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Garamond"/>
              </a:rPr>
              <a:t>В опросе участвовало 52 челове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buClr>
                <a:srgbClr val="00ff00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1302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41302"/>
                </a:solidFill>
                <a:latin typeface="Garamond"/>
              </a:rPr>
              <a:t>«Да»</a:t>
            </a:r>
            <a:r>
              <a:rPr b="1" lang="en-US" sz="3200" spc="-1" strike="noStrike">
                <a:solidFill>
                  <a:srgbClr val="ff00ff"/>
                </a:solidFill>
                <a:latin typeface="Garamond"/>
              </a:rPr>
              <a:t> ответили – </a:t>
            </a:r>
            <a:r>
              <a:rPr b="1" lang="en-US" sz="3200" spc="-1" strike="noStrike">
                <a:solidFill>
                  <a:srgbClr val="f41302"/>
                </a:solidFill>
                <a:latin typeface="Garamond"/>
              </a:rPr>
              <a:t>48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799"/>
              </a:spcBef>
              <a:buClr>
                <a:srgbClr val="00ff00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«Нет»</a:t>
            </a:r>
            <a:r>
              <a:rPr b="1" lang="en-US" sz="3200" spc="-1" strike="noStrike">
                <a:solidFill>
                  <a:srgbClr val="ff00ff"/>
                </a:solidFill>
                <a:latin typeface="Garamond"/>
              </a:rPr>
              <a:t> ответили – 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4 чело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4724280"/>
            <a:ext cx="4381560" cy="19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Garamond"/>
              </a:rPr>
              <a:t>Задачи, решаемые родителями в своей профессиональной деятельнос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Водитель – дальнобойщик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Я отправился в рейс из пункта А в пункт В, расстояние между которыми 369 км. В 13 ч 30 мин я проехал девятую часть пути. С какой скоростью мне нужно ехать, чтобы прибыть в фирму до её закрытия (закрывается в 18 ч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670800" y="1052640"/>
            <a:ext cx="2222280" cy="1446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443640" y="5346720"/>
            <a:ext cx="2376360" cy="1511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1052640"/>
            <a:ext cx="1692360" cy="138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Повар:</a:t>
            </a:r>
            <a:br>
              <a:rPr sz="4000"/>
            </a:br>
            <a:r>
              <a:rPr b="1" lang="en-US" sz="4000" spc="-1" strike="noStrike">
                <a:solidFill>
                  <a:srgbClr val="9900ff"/>
                </a:solidFill>
                <a:latin typeface="Garamond"/>
              </a:rPr>
              <a:t>Для приготовления борща из 500 грамм мяса необходимо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2133720"/>
          <a:ext cx="5008680" cy="4236840"/>
        </p:xfrm>
        <a:graphic>
          <a:graphicData uri="http://schemas.openxmlformats.org/drawingml/2006/table">
            <a:tbl>
              <a:tblPr/>
              <a:tblGrid>
                <a:gridCol w="2271600"/>
                <a:gridCol w="27370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Garamond"/>
                          <a:ea typeface="Arial"/>
                        </a:rPr>
                        <a:t>                         </a:t>
                      </a: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Garamond"/>
                          <a:ea typeface="Arial"/>
                        </a:rPr>
                        <a:t>Рецепт борщ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Свек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0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Капу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Коренья и л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Тома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Фа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331776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Garamond"/>
              </a:rPr>
              <a:t>Рассчитайте расход продуктов на приготовление борща из 3 кг мя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28760" y="1844640"/>
          <a:ext cx="5000400" cy="481500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</a:tblGrid>
              <a:tr h="55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Рецепт борщ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Свек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?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Капу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?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 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?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Коренья и лу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?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Том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?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 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Фа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?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к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32572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886e0"/>
                </a:solidFill>
                <a:latin typeface="Garamond"/>
              </a:rPr>
              <a:t>Электрик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Длина провода 12 м. На ремонт стальной лампы израсходовал ¼ этого куска. Хватит ли мне оставшегося провода, чтобы заменить проводку в комнате размером 3х4 (замену нужно произвести по двум смежным стенам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516720" y="2492280"/>
            <a:ext cx="24480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Вывод!!!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Garamond"/>
              </a:rPr>
              <a:t>Людям разных профессий необходимо уметь решать задачи на дроби, знать правила сложения и вычитания, умножения и деления дроб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580000" y="4869000"/>
            <a:ext cx="331308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6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00cc"/>
                </a:solidFill>
                <a:latin typeface="Garamond"/>
              </a:rPr>
              <a:t>Спасибо за внимание!!!</a:t>
            </a:r>
            <a:br>
              <a:rPr sz="8800"/>
            </a:b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3884760"/>
            <a:ext cx="3313080" cy="29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93333"/>
                </a:solidFill>
                <a:latin typeface="Garamond"/>
              </a:rPr>
              <a:t>«Историки»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ПРЕДСТАВЛЯЮТ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!!!!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ff"/>
                </a:solidFill>
                <a:latin typeface="Gill Sans Ultra Bold"/>
              </a:rPr>
              <a:t>«Как возникли дроби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516720" y="4076640"/>
            <a:ext cx="237492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Garamond"/>
              </a:rPr>
              <a:t>В каких</a:t>
            </a:r>
            <a:r>
              <a:rPr b="1" lang="en-US" sz="4400" spc="-1" strike="noStrike">
                <a:solidFill>
                  <a:srgbClr val="00ff00"/>
                </a:solidFill>
                <a:latin typeface="Garamond"/>
              </a:rPr>
              <a:t> источниках впервые упоминается о дробях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cc00ff"/>
                </a:solidFill>
                <a:latin typeface="Arial Black"/>
              </a:rPr>
              <a:t>Египетский математический кожаный свит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514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Московский математический папирус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длина составляет 5,40 м, а его ширина от 4 до 7 см. (Он был составлен около 1850 до н. 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Деревянная табличка Ахм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514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aramond"/>
              </a:rPr>
              <a:t>папирус Ринд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свиток длиной 5,25 м. и шириной 33 см. (ок. 1650 до н. э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659640" y="5373720"/>
            <a:ext cx="229536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Дроби!</a:t>
            </a:r>
            <a:r>
              <a:rPr b="1" lang="en-US" sz="4400" spc="-1" strike="noStrike">
                <a:solidFill>
                  <a:srgbClr val="cc00ff"/>
                </a:solidFill>
                <a:latin typeface="Garamond"/>
              </a:rPr>
              <a:t> Какие они в Древнем Вавилоне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00360" y="2420640"/>
            <a:ext cx="61927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Шестидесятеричные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и обозначались: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Например, время 3 ч 17 мин. 28 с можно записать и так: 3,17'28" ч (читается 3 целых, 17 шестидесятых 28 три тысячи шестисотых часа)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25210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1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Отношение к дробям в Древней Греци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читали, что </a:t>
            </a:r>
            <a:r>
              <a:rPr b="1" lang="en-US" sz="3600" spc="-1" strike="noStrike">
                <a:solidFill>
                  <a:srgbClr val="cc00ff"/>
                </a:solidFill>
                <a:latin typeface="Garamond"/>
              </a:rPr>
              <a:t>дроби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можно использовать только в </a:t>
            </a:r>
            <a:r>
              <a:rPr b="1" lang="en-US" sz="3600" spc="-1" strike="noStrike">
                <a:solidFill>
                  <a:srgbClr val="cc00ff"/>
                </a:solidFill>
                <a:latin typeface="Garamond"/>
              </a:rPr>
              <a:t>логистике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 Впервые встречается общее понятие дроби вида </a:t>
            </a:r>
            <a:r>
              <a:rPr b="1" i="1" lang="en-US" sz="3600" spc="-1" strike="noStrike">
                <a:solidFill>
                  <a:srgbClr val="00ff00"/>
                </a:solidFill>
                <a:latin typeface="Garamond"/>
              </a:rPr>
              <a:t>m/n.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3132000" cy="475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 Extra Bold"/>
              </a:rPr>
              <a:t>Где стали записывать дробь с помощью числителя и знаменателя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2852640"/>
            <a:ext cx="5986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Garamond"/>
              </a:rPr>
              <a:t>Современную систему записи дробей с числителем и знаменателем создали в Индии. Только там писали знаменатель сверху, а числитель - снизу, и не писали дробной черты. А записывать дроби в точности, как сейчас, стали араб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2924280"/>
            <a:ext cx="2376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ff"/>
                </a:solidFill>
                <a:latin typeface="Garamond"/>
              </a:rPr>
              <a:t>«Исследователи»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75708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00"/>
                </a:solidFill>
                <a:latin typeface="Garamond"/>
              </a:rPr>
              <a:t>Профессия и дроби!!!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696000" y="3716280"/>
            <a:ext cx="2448000" cy="2857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280" y="4653000"/>
            <a:ext cx="2808360" cy="18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4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ff"/>
                </a:solidFill>
                <a:latin typeface="Garamond"/>
              </a:rPr>
              <a:t>Цели исследования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Garamond"/>
              </a:rPr>
              <a:t>Доказать, что людям разной профессии нужны дроб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3810240" cy="288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352764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ff"/>
                </a:solidFill>
                <a:uFillTx/>
                <a:latin typeface="Garamond"/>
              </a:rPr>
              <a:t>Результаты исследован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155736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Garamond"/>
              </a:rPr>
              <a:t>В ходе исследований было проведено анкетирование родителей всего класса, с целью выяснения использования дробей в его професс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3708360" cy="44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4:57:13Z</dcterms:created>
  <dc:creator>Admin</dc:creator>
  <dc:description/>
  <dc:language>en-US</dc:language>
  <cp:lastModifiedBy>Андрей</cp:lastModifiedBy>
  <dcterms:modified xsi:type="dcterms:W3CDTF">2010-05-27T23:56:11Z</dcterms:modified>
  <cp:revision>10</cp:revision>
  <dc:subject/>
  <dc:title>Зачем нужны дроби?</dc:title>
</cp:coreProperties>
</file>